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781800" cy="9842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8323-6CDF-4096-9B5C-D70580080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FC3D-0E80-460B-B8B4-097F7881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A66A-DC41-459C-8AA9-3ED4A6CB3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708E-5EA3-44BE-BAF9-66AD8117D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2811-62D6-4566-80D9-D7D995F9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F23E-7E3D-4589-8C6A-6655E9BB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8AE5-FF5D-41F8-867B-5F7F8691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7C42-0D1E-42F7-80AD-628C5694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BB0B-6CF6-4DEA-A20D-74A609B7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4AF7-51F2-4529-A462-BEF69B1F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9529-ED64-4521-9408-9BF62BB7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D2D9-66F0-4FCD-AFB7-D2B24846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0541-95EA-47B8-A5A0-FC10D5C91A5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220968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Deep Pushdown Autom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4800600"/>
            <a:ext cx="8964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ased o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Meduna, A.: Deep Pushdown Automat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Acta Informatica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, 2006 (in pr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048120" y="5815800"/>
            <a:ext cx="114300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p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309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311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314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7240680" y="4368960"/>
            <a:ext cx="609480" cy="2186640"/>
            <a:chOff x="7240680" y="4368960"/>
            <a:chExt cx="609480" cy="2186640"/>
          </a:xfrm>
        </p:grpSpPr>
        <p:grpSp>
          <p:nvGrpSpPr>
            <p:cNvPr id="318" name=""/>
            <p:cNvGrpSpPr/>
            <p:nvPr/>
          </p:nvGrpSpPr>
          <p:grpSpPr>
            <a:xfrm>
              <a:off x="7240680" y="6095880"/>
              <a:ext cx="607680" cy="459720"/>
              <a:chOff x="7240680" y="6095880"/>
              <a:chExt cx="607680" cy="459720"/>
            </a:xfrm>
          </p:grpSpPr>
          <p:sp>
            <p:nvSpPr>
              <p:cNvPr id="319" name=""/>
              <p:cNvSpPr/>
              <p:nvPr/>
            </p:nvSpPr>
            <p:spPr>
              <a:xfrm>
                <a:off x="7313400" y="609588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240680" y="60958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7315200" y="4368960"/>
              <a:ext cx="534960" cy="459720"/>
              <a:chOff x="7315200" y="4368960"/>
              <a:chExt cx="534960" cy="459720"/>
            </a:xfrm>
          </p:grpSpPr>
          <p:sp>
            <p:nvSpPr>
              <p:cNvPr id="322" name=""/>
              <p:cNvSpPr/>
              <p:nvPr/>
            </p:nvSpPr>
            <p:spPr>
              <a:xfrm>
                <a:off x="7315200" y="43689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318440" y="436896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7315200" y="4800600"/>
              <a:ext cx="534960" cy="459720"/>
              <a:chOff x="7315200" y="4800600"/>
              <a:chExt cx="534960" cy="459720"/>
            </a:xfrm>
          </p:grpSpPr>
          <p:sp>
            <p:nvSpPr>
              <p:cNvPr id="325" name=""/>
              <p:cNvSpPr/>
              <p:nvPr/>
            </p:nvSpPr>
            <p:spPr>
              <a:xfrm>
                <a:off x="7315200" y="48006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318800" y="48006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7315200" y="5232240"/>
              <a:ext cx="534960" cy="459720"/>
              <a:chOff x="7315200" y="5232240"/>
              <a:chExt cx="534960" cy="459720"/>
            </a:xfrm>
          </p:grpSpPr>
          <p:sp>
            <p:nvSpPr>
              <p:cNvPr id="328" name=""/>
              <p:cNvSpPr/>
              <p:nvPr/>
            </p:nvSpPr>
            <p:spPr>
              <a:xfrm>
                <a:off x="7315200" y="5232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318440" y="523224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7315200" y="5664240"/>
              <a:ext cx="534960" cy="459720"/>
              <a:chOff x="7315200" y="5664240"/>
              <a:chExt cx="534960" cy="459720"/>
            </a:xfrm>
          </p:grpSpPr>
          <p:sp>
            <p:nvSpPr>
              <p:cNvPr id="331" name=""/>
              <p:cNvSpPr/>
              <p:nvPr/>
            </p:nvSpPr>
            <p:spPr>
              <a:xfrm>
                <a:off x="7315200" y="5664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318800" y="56642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7315200" y="655308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0" y="2057400"/>
            <a:ext cx="5021280" cy="1297800"/>
            <a:chOff x="0" y="2057400"/>
            <a:chExt cx="5021280" cy="1297800"/>
          </a:xfrm>
        </p:grpSpPr>
        <p:grpSp>
          <p:nvGrpSpPr>
            <p:cNvPr id="335" name=""/>
            <p:cNvGrpSpPr/>
            <p:nvPr/>
          </p:nvGrpSpPr>
          <p:grpSpPr>
            <a:xfrm>
              <a:off x="3733920" y="2895480"/>
              <a:ext cx="534960" cy="459720"/>
              <a:chOff x="3733920" y="2895480"/>
              <a:chExt cx="534960" cy="459720"/>
            </a:xfrm>
          </p:grpSpPr>
          <p:sp>
            <p:nvSpPr>
              <p:cNvPr id="336" name=""/>
              <p:cNvSpPr/>
              <p:nvPr/>
            </p:nvSpPr>
            <p:spPr>
              <a:xfrm>
                <a:off x="3733920" y="289548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735360" y="2895480"/>
                <a:ext cx="532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00808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0" y="2057400"/>
              <a:ext cx="5021280" cy="1297440"/>
              <a:chOff x="0" y="2057400"/>
              <a:chExt cx="5021280" cy="1297440"/>
            </a:xfrm>
          </p:grpSpPr>
          <p:sp>
            <p:nvSpPr>
              <p:cNvPr id="339" name=""/>
              <p:cNvSpPr/>
              <p:nvPr/>
            </p:nvSpPr>
            <p:spPr>
              <a:xfrm>
                <a:off x="906480" y="2057400"/>
                <a:ext cx="190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ad hea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0" name=""/>
              <p:cNvGrpSpPr/>
              <p:nvPr/>
            </p:nvGrpSpPr>
            <p:grpSpPr>
              <a:xfrm>
                <a:off x="0" y="2285640"/>
                <a:ext cx="5021280" cy="1069200"/>
                <a:chOff x="0" y="2285640"/>
                <a:chExt cx="5021280" cy="1069200"/>
              </a:xfrm>
            </p:grpSpPr>
            <p:cxnSp>
              <p:nvCxnSpPr>
                <p:cNvPr id="341" name=""/>
                <p:cNvCxnSpPr>
                  <a:stCxn id="339" idx="2"/>
                  <a:endCxn id="342" idx="0"/>
                </p:cNvCxnSpPr>
                <p:nvPr/>
              </p:nvCxnSpPr>
              <p:spPr>
                <a:xfrm flipH="1" rot="16200000">
                  <a:off x="1668600" y="2703240"/>
                  <a:ext cx="381600" cy="2520"/>
                </a:xfrm>
                <a:prstGeom prst="bentConnector3">
                  <a:avLst>
                    <a:gd name="adj1" fmla="val 49952"/>
                  </a:avLst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343" name=""/>
                <p:cNvSpPr/>
                <p:nvPr/>
              </p:nvSpPr>
              <p:spPr>
                <a:xfrm>
                  <a:off x="0" y="239004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nput tape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887920" y="2742480"/>
                  <a:ext cx="19810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2811600" y="2285640"/>
                  <a:ext cx="2209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move of hea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6" name=""/>
                <p:cNvGrpSpPr/>
                <p:nvPr/>
              </p:nvGrpSpPr>
              <p:grpSpPr>
                <a:xfrm>
                  <a:off x="4259520" y="2895120"/>
                  <a:ext cx="534960" cy="459720"/>
                  <a:chOff x="4259520" y="2895120"/>
                  <a:chExt cx="534960" cy="45972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>
                    <a:off x="42595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42609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9" name=""/>
                <p:cNvGrpSpPr/>
                <p:nvPr/>
              </p:nvGrpSpPr>
              <p:grpSpPr>
                <a:xfrm>
                  <a:off x="2659320" y="2895120"/>
                  <a:ext cx="534960" cy="459720"/>
                  <a:chOff x="2659320" y="2895120"/>
                  <a:chExt cx="534960" cy="45972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26593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26607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2" name=""/>
                <p:cNvGrpSpPr/>
                <p:nvPr/>
              </p:nvGrpSpPr>
              <p:grpSpPr>
                <a:xfrm>
                  <a:off x="3192480" y="2895120"/>
                  <a:ext cx="534960" cy="459720"/>
                  <a:chOff x="3192480" y="2895120"/>
                  <a:chExt cx="534960" cy="459720"/>
                </a:xfrm>
              </p:grpSpPr>
              <p:sp>
                <p:nvSpPr>
                  <p:cNvPr id="353" name=""/>
                  <p:cNvSpPr/>
                  <p:nvPr/>
                </p:nvSpPr>
                <p:spPr>
                  <a:xfrm>
                    <a:off x="31924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31939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5" name=""/>
                <p:cNvGrpSpPr/>
                <p:nvPr/>
              </p:nvGrpSpPr>
              <p:grpSpPr>
                <a:xfrm>
                  <a:off x="1592280" y="2895120"/>
                  <a:ext cx="534960" cy="459720"/>
                  <a:chOff x="1592280" y="2895120"/>
                  <a:chExt cx="534960" cy="45972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>
                    <a:off x="15922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15937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7" name=""/>
                <p:cNvGrpSpPr/>
                <p:nvPr/>
              </p:nvGrpSpPr>
              <p:grpSpPr>
                <a:xfrm>
                  <a:off x="2125800" y="2895120"/>
                  <a:ext cx="534960" cy="459720"/>
                  <a:chOff x="2125800" y="2895120"/>
                  <a:chExt cx="534960" cy="459720"/>
                </a:xfrm>
              </p:grpSpPr>
              <p:sp>
                <p:nvSpPr>
                  <p:cNvPr id="358" name=""/>
                  <p:cNvSpPr/>
                  <p:nvPr/>
                </p:nvSpPr>
                <p:spPr>
                  <a:xfrm>
                    <a:off x="212580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212724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60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876920" y="4266360"/>
            <a:ext cx="11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200400" y="4114800"/>
            <a:ext cx="838080" cy="838080"/>
          </a:xfrm>
          <a:prstGeom prst="ellipse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038480" y="4495680"/>
            <a:ext cx="5335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1828800" y="3351960"/>
            <a:ext cx="1371600" cy="1219320"/>
          </a:xfrm>
          <a:custGeom>
            <a:avLst/>
            <a:gdLst/>
            <a:ahLst/>
            <a:rect l="l" t="t" r="r" b="b"/>
            <a:pathLst>
              <a:path w="672" h="672">
                <a:moveTo>
                  <a:pt x="672" y="0"/>
                </a:moveTo>
                <a:lnTo>
                  <a:pt x="8" y="0"/>
                </a:lnTo>
                <a:lnTo>
                  <a:pt x="0" y="672"/>
                </a:lnTo>
              </a:path>
            </a:pathLst>
          </a:custGeom>
          <a:noFill/>
          <a:ln w="47520">
            <a:solidFill>
              <a:srgbClr val="000000"/>
            </a:solidFill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352680" y="41904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4952880"/>
            <a:ext cx="0" cy="83844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048120" y="5815800"/>
            <a:ext cx="114300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p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377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379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382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7240680" y="4368960"/>
            <a:ext cx="609480" cy="2186640"/>
            <a:chOff x="7240680" y="4368960"/>
            <a:chExt cx="609480" cy="2186640"/>
          </a:xfrm>
        </p:grpSpPr>
        <p:grpSp>
          <p:nvGrpSpPr>
            <p:cNvPr id="386" name=""/>
            <p:cNvGrpSpPr/>
            <p:nvPr/>
          </p:nvGrpSpPr>
          <p:grpSpPr>
            <a:xfrm>
              <a:off x="7240680" y="6095880"/>
              <a:ext cx="607680" cy="459720"/>
              <a:chOff x="7240680" y="6095880"/>
              <a:chExt cx="607680" cy="459720"/>
            </a:xfrm>
          </p:grpSpPr>
          <p:sp>
            <p:nvSpPr>
              <p:cNvPr id="387" name=""/>
              <p:cNvSpPr/>
              <p:nvPr/>
            </p:nvSpPr>
            <p:spPr>
              <a:xfrm>
                <a:off x="7313400" y="609588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240680" y="60958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7315200" y="4368960"/>
              <a:ext cx="534960" cy="459720"/>
              <a:chOff x="7315200" y="4368960"/>
              <a:chExt cx="534960" cy="459720"/>
            </a:xfrm>
          </p:grpSpPr>
          <p:sp>
            <p:nvSpPr>
              <p:cNvPr id="390" name=""/>
              <p:cNvSpPr/>
              <p:nvPr/>
            </p:nvSpPr>
            <p:spPr>
              <a:xfrm>
                <a:off x="7315200" y="43689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318440" y="436896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7315200" y="4800600"/>
              <a:ext cx="534960" cy="459720"/>
              <a:chOff x="7315200" y="4800600"/>
              <a:chExt cx="534960" cy="459720"/>
            </a:xfrm>
          </p:grpSpPr>
          <p:sp>
            <p:nvSpPr>
              <p:cNvPr id="393" name=""/>
              <p:cNvSpPr/>
              <p:nvPr/>
            </p:nvSpPr>
            <p:spPr>
              <a:xfrm>
                <a:off x="7315200" y="48006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318800" y="48006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7315200" y="5232240"/>
              <a:ext cx="534960" cy="459720"/>
              <a:chOff x="7315200" y="5232240"/>
              <a:chExt cx="534960" cy="459720"/>
            </a:xfrm>
          </p:grpSpPr>
          <p:sp>
            <p:nvSpPr>
              <p:cNvPr id="396" name=""/>
              <p:cNvSpPr/>
              <p:nvPr/>
            </p:nvSpPr>
            <p:spPr>
              <a:xfrm>
                <a:off x="7315200" y="5232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318440" y="523224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7315200" y="5664240"/>
              <a:ext cx="534960" cy="459720"/>
              <a:chOff x="7315200" y="5664240"/>
              <a:chExt cx="534960" cy="459720"/>
            </a:xfrm>
          </p:grpSpPr>
          <p:sp>
            <p:nvSpPr>
              <p:cNvPr id="399" name=""/>
              <p:cNvSpPr/>
              <p:nvPr/>
            </p:nvSpPr>
            <p:spPr>
              <a:xfrm>
                <a:off x="7315200" y="5664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318800" y="56642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7315200" y="655308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0" y="2057400"/>
            <a:ext cx="5021280" cy="1297800"/>
            <a:chOff x="0" y="2057400"/>
            <a:chExt cx="5021280" cy="1297800"/>
          </a:xfrm>
        </p:grpSpPr>
        <p:grpSp>
          <p:nvGrpSpPr>
            <p:cNvPr id="403" name=""/>
            <p:cNvGrpSpPr/>
            <p:nvPr/>
          </p:nvGrpSpPr>
          <p:grpSpPr>
            <a:xfrm>
              <a:off x="3733920" y="2895480"/>
              <a:ext cx="534960" cy="459720"/>
              <a:chOff x="3733920" y="2895480"/>
              <a:chExt cx="534960" cy="459720"/>
            </a:xfrm>
          </p:grpSpPr>
          <p:sp>
            <p:nvSpPr>
              <p:cNvPr id="404" name=""/>
              <p:cNvSpPr/>
              <p:nvPr/>
            </p:nvSpPr>
            <p:spPr>
              <a:xfrm>
                <a:off x="3733920" y="289548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735360" y="2895480"/>
                <a:ext cx="532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00808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0" y="2057400"/>
              <a:ext cx="5021280" cy="1297440"/>
              <a:chOff x="0" y="2057400"/>
              <a:chExt cx="5021280" cy="1297440"/>
            </a:xfrm>
          </p:grpSpPr>
          <p:sp>
            <p:nvSpPr>
              <p:cNvPr id="407" name=""/>
              <p:cNvSpPr/>
              <p:nvPr/>
            </p:nvSpPr>
            <p:spPr>
              <a:xfrm>
                <a:off x="906480" y="2057400"/>
                <a:ext cx="190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ad hea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8" name=""/>
              <p:cNvGrpSpPr/>
              <p:nvPr/>
            </p:nvGrpSpPr>
            <p:grpSpPr>
              <a:xfrm>
                <a:off x="0" y="2285640"/>
                <a:ext cx="5021280" cy="1069200"/>
                <a:chOff x="0" y="2285640"/>
                <a:chExt cx="5021280" cy="1069200"/>
              </a:xfrm>
            </p:grpSpPr>
            <p:cxnSp>
              <p:nvCxnSpPr>
                <p:cNvPr id="409" name=""/>
                <p:cNvCxnSpPr>
                  <a:stCxn id="407" idx="2"/>
                  <a:endCxn id="410" idx="0"/>
                </p:cNvCxnSpPr>
                <p:nvPr/>
              </p:nvCxnSpPr>
              <p:spPr>
                <a:xfrm flipH="1" rot="16200000">
                  <a:off x="1668600" y="2703240"/>
                  <a:ext cx="381600" cy="2520"/>
                </a:xfrm>
                <a:prstGeom prst="bentConnector3">
                  <a:avLst>
                    <a:gd name="adj1" fmla="val 49952"/>
                  </a:avLst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411" name=""/>
                <p:cNvSpPr/>
                <p:nvPr/>
              </p:nvSpPr>
              <p:spPr>
                <a:xfrm>
                  <a:off x="0" y="239004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nput tape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887920" y="2742480"/>
                  <a:ext cx="19810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811600" y="2285640"/>
                  <a:ext cx="2209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move of hea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4" name=""/>
                <p:cNvGrpSpPr/>
                <p:nvPr/>
              </p:nvGrpSpPr>
              <p:grpSpPr>
                <a:xfrm>
                  <a:off x="4259520" y="2895120"/>
                  <a:ext cx="534960" cy="459720"/>
                  <a:chOff x="4259520" y="2895120"/>
                  <a:chExt cx="534960" cy="45972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>
                    <a:off x="42595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42609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7" name=""/>
                <p:cNvGrpSpPr/>
                <p:nvPr/>
              </p:nvGrpSpPr>
              <p:grpSpPr>
                <a:xfrm>
                  <a:off x="2659320" y="2895120"/>
                  <a:ext cx="534960" cy="459720"/>
                  <a:chOff x="2659320" y="2895120"/>
                  <a:chExt cx="534960" cy="45972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>
                    <a:off x="26593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6607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0" name=""/>
                <p:cNvGrpSpPr/>
                <p:nvPr/>
              </p:nvGrpSpPr>
              <p:grpSpPr>
                <a:xfrm>
                  <a:off x="3192480" y="2895120"/>
                  <a:ext cx="534960" cy="459720"/>
                  <a:chOff x="3192480" y="2895120"/>
                  <a:chExt cx="534960" cy="45972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>
                    <a:off x="31924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31939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3" name=""/>
                <p:cNvGrpSpPr/>
                <p:nvPr/>
              </p:nvGrpSpPr>
              <p:grpSpPr>
                <a:xfrm>
                  <a:off x="1592280" y="2895120"/>
                  <a:ext cx="534960" cy="459720"/>
                  <a:chOff x="1592280" y="2895120"/>
                  <a:chExt cx="534960" cy="45972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>
                    <a:off x="15922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15937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5" name=""/>
                <p:cNvGrpSpPr/>
                <p:nvPr/>
              </p:nvGrpSpPr>
              <p:grpSpPr>
                <a:xfrm>
                  <a:off x="2125800" y="2895120"/>
                  <a:ext cx="534960" cy="459720"/>
                  <a:chOff x="2125800" y="2895120"/>
                  <a:chExt cx="534960" cy="45972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>
                    <a:off x="212580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212724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28" name=""/>
          <p:cNvSpPr/>
          <p:nvPr/>
        </p:nvSpPr>
        <p:spPr>
          <a:xfrm>
            <a:off x="1663560" y="3378240"/>
            <a:ext cx="1384560" cy="2768400"/>
          </a:xfrm>
          <a:custGeom>
            <a:avLst/>
            <a:gdLst/>
            <a:ahLst/>
            <a:rect l="l" t="t" r="r" b="b"/>
            <a:pathLst>
              <a:path w="872" h="1744">
                <a:moveTo>
                  <a:pt x="872" y="1744"/>
                </a:moveTo>
                <a:lnTo>
                  <a:pt x="0" y="1744"/>
                </a:lnTo>
                <a:lnTo>
                  <a:pt x="0" y="0"/>
                </a:ln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6212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move  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048120" y="5815800"/>
            <a:ext cx="114300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p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439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441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444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7240680" y="4368960"/>
            <a:ext cx="609480" cy="2186640"/>
            <a:chOff x="7240680" y="4368960"/>
            <a:chExt cx="609480" cy="2186640"/>
          </a:xfrm>
        </p:grpSpPr>
        <p:grpSp>
          <p:nvGrpSpPr>
            <p:cNvPr id="448" name=""/>
            <p:cNvGrpSpPr/>
            <p:nvPr/>
          </p:nvGrpSpPr>
          <p:grpSpPr>
            <a:xfrm>
              <a:off x="7240680" y="6095880"/>
              <a:ext cx="607680" cy="459720"/>
              <a:chOff x="7240680" y="6095880"/>
              <a:chExt cx="607680" cy="459720"/>
            </a:xfrm>
          </p:grpSpPr>
          <p:sp>
            <p:nvSpPr>
              <p:cNvPr id="449" name=""/>
              <p:cNvSpPr/>
              <p:nvPr/>
            </p:nvSpPr>
            <p:spPr>
              <a:xfrm>
                <a:off x="7313400" y="609588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240680" y="60958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7315200" y="4368960"/>
              <a:ext cx="534960" cy="459720"/>
              <a:chOff x="7315200" y="4368960"/>
              <a:chExt cx="534960" cy="459720"/>
            </a:xfrm>
          </p:grpSpPr>
          <p:sp>
            <p:nvSpPr>
              <p:cNvPr id="452" name=""/>
              <p:cNvSpPr/>
              <p:nvPr/>
            </p:nvSpPr>
            <p:spPr>
              <a:xfrm>
                <a:off x="7315200" y="43689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318440" y="436896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7315200" y="4800600"/>
              <a:ext cx="534960" cy="459720"/>
              <a:chOff x="7315200" y="4800600"/>
              <a:chExt cx="534960" cy="459720"/>
            </a:xfrm>
          </p:grpSpPr>
          <p:sp>
            <p:nvSpPr>
              <p:cNvPr id="455" name=""/>
              <p:cNvSpPr/>
              <p:nvPr/>
            </p:nvSpPr>
            <p:spPr>
              <a:xfrm>
                <a:off x="7315200" y="48006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318800" y="48006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7315200" y="5232240"/>
              <a:ext cx="534960" cy="459720"/>
              <a:chOff x="7315200" y="5232240"/>
              <a:chExt cx="534960" cy="459720"/>
            </a:xfrm>
          </p:grpSpPr>
          <p:sp>
            <p:nvSpPr>
              <p:cNvPr id="458" name=""/>
              <p:cNvSpPr/>
              <p:nvPr/>
            </p:nvSpPr>
            <p:spPr>
              <a:xfrm>
                <a:off x="7315200" y="5232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318440" y="523224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7315200" y="5664240"/>
              <a:ext cx="534960" cy="459720"/>
              <a:chOff x="7315200" y="5664240"/>
              <a:chExt cx="534960" cy="459720"/>
            </a:xfrm>
          </p:grpSpPr>
          <p:sp>
            <p:nvSpPr>
              <p:cNvPr id="461" name=""/>
              <p:cNvSpPr/>
              <p:nvPr/>
            </p:nvSpPr>
            <p:spPr>
              <a:xfrm>
                <a:off x="7315200" y="5664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318800" y="56642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3" name=""/>
            <p:cNvSpPr/>
            <p:nvPr/>
          </p:nvSpPr>
          <p:spPr>
            <a:xfrm>
              <a:off x="7315200" y="655308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4191120" y="4572000"/>
            <a:ext cx="3124080" cy="1600200"/>
          </a:xfrm>
          <a:custGeom>
            <a:avLst/>
            <a:gdLst/>
            <a:ahLst/>
            <a:rect l="l" t="t" r="r" b="b"/>
            <a:pathLst>
              <a:path w="1968" h="912">
                <a:moveTo>
                  <a:pt x="0" y="912"/>
                </a:moveTo>
                <a:lnTo>
                  <a:pt x="1440" y="912"/>
                </a:lnTo>
                <a:lnTo>
                  <a:pt x="1432" y="8"/>
                </a:lnTo>
                <a:lnTo>
                  <a:pt x="1968" y="0"/>
                </a:ln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181480" y="571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e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469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472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5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6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479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482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485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488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491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048120" y="5815800"/>
            <a:ext cx="114300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rot="16200000">
            <a:off x="8043480" y="4834080"/>
            <a:ext cx="8316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7848360" y="5029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500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502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505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7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7240680" y="6095880"/>
            <a:ext cx="607680" cy="459720"/>
            <a:chOff x="7240680" y="6095880"/>
            <a:chExt cx="607680" cy="459720"/>
          </a:xfrm>
        </p:grpSpPr>
        <p:sp>
          <p:nvSpPr>
            <p:cNvPr id="509" name=""/>
            <p:cNvSpPr/>
            <p:nvPr/>
          </p:nvSpPr>
          <p:spPr>
            <a:xfrm>
              <a:off x="7313400" y="60958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240680" y="60958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7315200" y="4800600"/>
            <a:ext cx="534960" cy="459720"/>
            <a:chOff x="7315200" y="4800600"/>
            <a:chExt cx="534960" cy="459720"/>
          </a:xfrm>
        </p:grpSpPr>
        <p:sp>
          <p:nvSpPr>
            <p:cNvPr id="512" name=""/>
            <p:cNvSpPr/>
            <p:nvPr/>
          </p:nvSpPr>
          <p:spPr>
            <a:xfrm>
              <a:off x="7315200" y="48006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318800" y="48006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7315200" y="5232240"/>
            <a:ext cx="534960" cy="459720"/>
            <a:chOff x="7315200" y="5232240"/>
            <a:chExt cx="534960" cy="459720"/>
          </a:xfrm>
        </p:grpSpPr>
        <p:sp>
          <p:nvSpPr>
            <p:cNvPr id="515" name=""/>
            <p:cNvSpPr/>
            <p:nvPr/>
          </p:nvSpPr>
          <p:spPr>
            <a:xfrm>
              <a:off x="7315200" y="52322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318440" y="52322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7315200" y="5664240"/>
            <a:ext cx="534960" cy="459720"/>
            <a:chOff x="7315200" y="5664240"/>
            <a:chExt cx="534960" cy="459720"/>
          </a:xfrm>
        </p:grpSpPr>
        <p:sp>
          <p:nvSpPr>
            <p:cNvPr id="518" name=""/>
            <p:cNvSpPr/>
            <p:nvPr/>
          </p:nvSpPr>
          <p:spPr>
            <a:xfrm>
              <a:off x="7315200" y="56642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18800" y="56642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7315200" y="65530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524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527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1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534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537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540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543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546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8" name=""/>
          <p:cNvSpPr/>
          <p:nvPr/>
        </p:nvSpPr>
        <p:spPr>
          <a:xfrm>
            <a:off x="3657600" y="556272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553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559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0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561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564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7240680" y="5638680"/>
            <a:ext cx="607680" cy="459720"/>
            <a:chOff x="7240680" y="5638680"/>
            <a:chExt cx="607680" cy="459720"/>
          </a:xfrm>
        </p:grpSpPr>
        <p:sp>
          <p:nvSpPr>
            <p:cNvPr id="568" name=""/>
            <p:cNvSpPr/>
            <p:nvPr/>
          </p:nvSpPr>
          <p:spPr>
            <a:xfrm>
              <a:off x="7313400" y="56386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240680" y="56386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571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574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577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7315200" y="60958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581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5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589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592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595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598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601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724280" y="41900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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613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619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0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621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624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6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7240680" y="5638680"/>
            <a:ext cx="607680" cy="459720"/>
            <a:chOff x="7240680" y="5638680"/>
            <a:chExt cx="607680" cy="459720"/>
          </a:xfrm>
        </p:grpSpPr>
        <p:sp>
          <p:nvSpPr>
            <p:cNvPr id="628" name=""/>
            <p:cNvSpPr/>
            <p:nvPr/>
          </p:nvSpPr>
          <p:spPr>
            <a:xfrm>
              <a:off x="7313400" y="56386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240680" y="56386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631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634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637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7315200" y="60958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641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4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5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649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652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655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658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661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724280" y="41900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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838080" y="4800600"/>
            <a:ext cx="685800" cy="838080"/>
          </a:xfrm>
          <a:prstGeom prst="line">
            <a:avLst/>
          </a:prstGeom>
          <a:ln w="47520">
            <a:solidFill>
              <a:srgbClr val="0000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666880" y="5358600"/>
            <a:ext cx="190512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676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682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3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684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687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9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7240680" y="5638680"/>
            <a:ext cx="607680" cy="459720"/>
            <a:chOff x="7240680" y="5638680"/>
            <a:chExt cx="607680" cy="459720"/>
          </a:xfrm>
        </p:grpSpPr>
        <p:sp>
          <p:nvSpPr>
            <p:cNvPr id="691" name=""/>
            <p:cNvSpPr/>
            <p:nvPr/>
          </p:nvSpPr>
          <p:spPr>
            <a:xfrm>
              <a:off x="7313400" y="56386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240680" y="56386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694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697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700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7315200" y="60958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704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7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8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712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715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718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721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724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724280" y="41900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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3581280" y="449568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581280" y="4495680"/>
            <a:ext cx="0" cy="838440"/>
          </a:xfrm>
          <a:prstGeom prst="line">
            <a:avLst/>
          </a:prstGeom>
          <a:ln w="47520">
            <a:solidFill>
              <a:srgbClr val="0000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895480" y="4495680"/>
            <a:ext cx="68580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33520" y="4267080"/>
            <a:ext cx="380880" cy="53352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391520" y="5181480"/>
            <a:ext cx="380880" cy="53352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666880" y="5358600"/>
            <a:ext cx="190512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0539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743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749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0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751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754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7240680" y="5638680"/>
            <a:ext cx="607680" cy="459720"/>
            <a:chOff x="7240680" y="5638680"/>
            <a:chExt cx="607680" cy="459720"/>
          </a:xfrm>
        </p:grpSpPr>
        <p:sp>
          <p:nvSpPr>
            <p:cNvPr id="758" name=""/>
            <p:cNvSpPr/>
            <p:nvPr/>
          </p:nvSpPr>
          <p:spPr>
            <a:xfrm>
              <a:off x="7313400" y="56386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240680" y="56386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761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764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767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9" name=""/>
          <p:cNvSpPr/>
          <p:nvPr/>
        </p:nvSpPr>
        <p:spPr>
          <a:xfrm>
            <a:off x="7315200" y="60958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771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3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4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5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779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782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785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788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791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914560" y="4476600"/>
            <a:ext cx="668520" cy="857520"/>
          </a:xfrm>
          <a:custGeom>
            <a:avLst/>
            <a:gdLst/>
            <a:ahLst/>
            <a:rect l="l" t="t" r="r" b="b"/>
            <a:pathLst>
              <a:path w="421" h="540">
                <a:moveTo>
                  <a:pt x="0" y="0"/>
                </a:moveTo>
                <a:lnTo>
                  <a:pt x="420" y="0"/>
                </a:lnTo>
                <a:lnTo>
                  <a:pt x="421" y="540"/>
                </a:ln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572000" y="5410080"/>
            <a:ext cx="2743200" cy="304920"/>
          </a:xfrm>
          <a:custGeom>
            <a:avLst/>
            <a:gdLst/>
            <a:ahLst/>
            <a:rect l="l" t="t" r="r" b="b"/>
            <a:pathLst>
              <a:path w="1968" h="912">
                <a:moveTo>
                  <a:pt x="0" y="912"/>
                </a:moveTo>
                <a:lnTo>
                  <a:pt x="1440" y="912"/>
                </a:lnTo>
                <a:lnTo>
                  <a:pt x="1432" y="8"/>
                </a:lnTo>
                <a:lnTo>
                  <a:pt x="1968" y="0"/>
                </a:ln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181480" y="571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666880" y="5358600"/>
            <a:ext cx="190512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04928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805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811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2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813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816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8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7240680" y="6095880"/>
            <a:ext cx="607680" cy="459720"/>
            <a:chOff x="7240680" y="6095880"/>
            <a:chExt cx="607680" cy="459720"/>
          </a:xfrm>
        </p:grpSpPr>
        <p:sp>
          <p:nvSpPr>
            <p:cNvPr id="820" name=""/>
            <p:cNvSpPr/>
            <p:nvPr/>
          </p:nvSpPr>
          <p:spPr>
            <a:xfrm>
              <a:off x="7313400" y="60958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240680" y="60958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823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826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829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315200" y="65530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2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833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5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6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7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841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844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847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850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853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5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572000" y="3200400"/>
            <a:ext cx="3048120" cy="2514600"/>
          </a:xfrm>
          <a:custGeom>
            <a:avLst/>
            <a:gdLst/>
            <a:ahLst/>
            <a:rect l="l" t="t" r="r" b="b"/>
            <a:pathLst>
              <a:path w="1968" h="912">
                <a:moveTo>
                  <a:pt x="0" y="912"/>
                </a:moveTo>
                <a:lnTo>
                  <a:pt x="1440" y="912"/>
                </a:lnTo>
                <a:lnTo>
                  <a:pt x="1432" y="8"/>
                </a:lnTo>
                <a:lnTo>
                  <a:pt x="1968" y="0"/>
                </a:ln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876920" y="5715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change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7315200" y="5638680"/>
            <a:ext cx="534960" cy="459720"/>
            <a:chOff x="7315200" y="5638680"/>
            <a:chExt cx="534960" cy="459720"/>
          </a:xfrm>
        </p:grpSpPr>
        <p:sp>
          <p:nvSpPr>
            <p:cNvPr id="862" name=""/>
            <p:cNvSpPr/>
            <p:nvPr/>
          </p:nvSpPr>
          <p:spPr>
            <a:xfrm>
              <a:off x="7315200" y="563868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318080" y="5638680"/>
              <a:ext cx="39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2914560" y="4476600"/>
            <a:ext cx="668520" cy="857520"/>
          </a:xfrm>
          <a:custGeom>
            <a:avLst/>
            <a:gdLst/>
            <a:ahLst/>
            <a:rect l="l" t="t" r="r" b="b"/>
            <a:pathLst>
              <a:path w="421" h="540">
                <a:moveTo>
                  <a:pt x="0" y="0"/>
                </a:moveTo>
                <a:lnTo>
                  <a:pt x="420" y="0"/>
                </a:lnTo>
                <a:lnTo>
                  <a:pt x="421" y="540"/>
                </a:ln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666880" y="5358600"/>
            <a:ext cx="190512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04928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870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2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553080" y="1905120"/>
            <a:ext cx="2057400" cy="16761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7737480" y="2251080"/>
            <a:ext cx="560160" cy="487800"/>
            <a:chOff x="7737480" y="2251080"/>
            <a:chExt cx="560160" cy="487800"/>
          </a:xfrm>
        </p:grpSpPr>
        <p:sp>
          <p:nvSpPr>
            <p:cNvPr id="877" name=""/>
            <p:cNvSpPr/>
            <p:nvPr/>
          </p:nvSpPr>
          <p:spPr>
            <a:xfrm>
              <a:off x="7737480" y="2252520"/>
              <a:ext cx="53640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739280" y="2251080"/>
              <a:ext cx="55836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6864480" y="2251080"/>
            <a:ext cx="559800" cy="487800"/>
            <a:chOff x="6864480" y="2251080"/>
            <a:chExt cx="559800" cy="487800"/>
          </a:xfrm>
        </p:grpSpPr>
        <p:sp>
          <p:nvSpPr>
            <p:cNvPr id="880" name=""/>
            <p:cNvSpPr/>
            <p:nvPr/>
          </p:nvSpPr>
          <p:spPr>
            <a:xfrm>
              <a:off x="6864480" y="2252520"/>
              <a:ext cx="53604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866280" y="2251080"/>
              <a:ext cx="55800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 flipV="1">
            <a:off x="7725960" y="2763000"/>
            <a:ext cx="208800" cy="422640"/>
          </a:xfrm>
          <a:prstGeom prst="line">
            <a:avLst/>
          </a:prstGeom>
          <a:ln w="47520">
            <a:solidFill>
              <a:srgbClr val="0000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7240680" y="6095880"/>
            <a:ext cx="607680" cy="459720"/>
            <a:chOff x="7240680" y="6095880"/>
            <a:chExt cx="607680" cy="459720"/>
          </a:xfrm>
        </p:grpSpPr>
        <p:sp>
          <p:nvSpPr>
            <p:cNvPr id="884" name=""/>
            <p:cNvSpPr/>
            <p:nvPr/>
          </p:nvSpPr>
          <p:spPr>
            <a:xfrm>
              <a:off x="7313400" y="60958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240680" y="60958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887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890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893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5" name=""/>
          <p:cNvSpPr/>
          <p:nvPr/>
        </p:nvSpPr>
        <p:spPr>
          <a:xfrm>
            <a:off x="7315200" y="65530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897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9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0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905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908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911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914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917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572000" y="3200400"/>
            <a:ext cx="3048120" cy="2514600"/>
          </a:xfrm>
          <a:custGeom>
            <a:avLst/>
            <a:gdLst/>
            <a:ahLst/>
            <a:rect l="l" t="t" r="r" b="b"/>
            <a:pathLst>
              <a:path w="1968" h="912">
                <a:moveTo>
                  <a:pt x="0" y="912"/>
                </a:moveTo>
                <a:lnTo>
                  <a:pt x="1440" y="912"/>
                </a:lnTo>
                <a:lnTo>
                  <a:pt x="1432" y="8"/>
                </a:lnTo>
                <a:lnTo>
                  <a:pt x="1968" y="0"/>
                </a:ln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876920" y="5715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change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7315200" y="5638680"/>
            <a:ext cx="534960" cy="459720"/>
            <a:chOff x="7315200" y="5638680"/>
            <a:chExt cx="534960" cy="459720"/>
          </a:xfrm>
        </p:grpSpPr>
        <p:sp>
          <p:nvSpPr>
            <p:cNvPr id="926" name=""/>
            <p:cNvSpPr/>
            <p:nvPr/>
          </p:nvSpPr>
          <p:spPr>
            <a:xfrm>
              <a:off x="7315200" y="563868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318080" y="5638680"/>
              <a:ext cx="39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2914560" y="4476600"/>
            <a:ext cx="668520" cy="857520"/>
          </a:xfrm>
          <a:custGeom>
            <a:avLst/>
            <a:gdLst/>
            <a:ahLst/>
            <a:rect l="l" t="t" r="r" b="b"/>
            <a:pathLst>
              <a:path w="421" h="540">
                <a:moveTo>
                  <a:pt x="0" y="0"/>
                </a:moveTo>
                <a:lnTo>
                  <a:pt x="420" y="0"/>
                </a:lnTo>
                <a:lnTo>
                  <a:pt x="421" y="540"/>
                </a:ln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Pushdown Automaton (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4460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762120" y="4145040"/>
            <a:ext cx="2668320" cy="510120"/>
            <a:chOff x="762120" y="4145040"/>
            <a:chExt cx="2668320" cy="510120"/>
          </a:xfrm>
        </p:grpSpPr>
        <p:grpSp>
          <p:nvGrpSpPr>
            <p:cNvPr id="46" name=""/>
            <p:cNvGrpSpPr/>
            <p:nvPr/>
          </p:nvGrpSpPr>
          <p:grpSpPr>
            <a:xfrm>
              <a:off x="762120" y="4145040"/>
              <a:ext cx="545760" cy="510120"/>
              <a:chOff x="762120" y="4145040"/>
              <a:chExt cx="545760" cy="510120"/>
            </a:xfrm>
          </p:grpSpPr>
          <p:sp>
            <p:nvSpPr>
              <p:cNvPr id="47" name=""/>
              <p:cNvSpPr/>
              <p:nvPr/>
            </p:nvSpPr>
            <p:spPr>
              <a:xfrm>
                <a:off x="7621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7652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lang="en-GB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2895480" y="4145040"/>
              <a:ext cx="534960" cy="510120"/>
              <a:chOff x="2895480" y="4145040"/>
              <a:chExt cx="534960" cy="510120"/>
            </a:xfrm>
          </p:grpSpPr>
          <p:sp>
            <p:nvSpPr>
              <p:cNvPr id="50" name=""/>
              <p:cNvSpPr/>
              <p:nvPr/>
            </p:nvSpPr>
            <p:spPr>
              <a:xfrm>
                <a:off x="289548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90556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lang="en-GB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2362320" y="4145040"/>
              <a:ext cx="534960" cy="510120"/>
              <a:chOff x="2362320" y="4145040"/>
              <a:chExt cx="534960" cy="510120"/>
            </a:xfrm>
          </p:grpSpPr>
          <p:sp>
            <p:nvSpPr>
              <p:cNvPr id="53" name=""/>
              <p:cNvSpPr/>
              <p:nvPr/>
            </p:nvSpPr>
            <p:spPr>
              <a:xfrm>
                <a:off x="23623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37240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lang="en-GB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1295280" y="4145040"/>
              <a:ext cx="106704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95280" y="414504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4494240" y="4114800"/>
            <a:ext cx="4268880" cy="510120"/>
            <a:chOff x="4494240" y="4114800"/>
            <a:chExt cx="4268880" cy="510120"/>
          </a:xfrm>
        </p:grpSpPr>
        <p:grpSp>
          <p:nvGrpSpPr>
            <p:cNvPr id="58" name=""/>
            <p:cNvGrpSpPr/>
            <p:nvPr/>
          </p:nvGrpSpPr>
          <p:grpSpPr>
            <a:xfrm>
              <a:off x="6627960" y="4114800"/>
              <a:ext cx="534960" cy="510120"/>
              <a:chOff x="6627960" y="4114800"/>
              <a:chExt cx="534960" cy="510120"/>
            </a:xfrm>
          </p:grpSpPr>
          <p:sp>
            <p:nvSpPr>
              <p:cNvPr id="59" name=""/>
              <p:cNvSpPr/>
              <p:nvPr/>
            </p:nvSpPr>
            <p:spPr>
              <a:xfrm>
                <a:off x="6627960" y="4114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721200" y="411480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808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808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8228160" y="4114800"/>
              <a:ext cx="534960" cy="510120"/>
              <a:chOff x="8228160" y="4114800"/>
              <a:chExt cx="534960" cy="510120"/>
            </a:xfrm>
          </p:grpSpPr>
          <p:sp>
            <p:nvSpPr>
              <p:cNvPr id="62" name=""/>
              <p:cNvSpPr/>
              <p:nvPr/>
            </p:nvSpPr>
            <p:spPr>
              <a:xfrm>
                <a:off x="8228160" y="4114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229600" y="4114800"/>
                <a:ext cx="532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808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808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7161480" y="4114800"/>
              <a:ext cx="1066680" cy="459720"/>
              <a:chOff x="7161480" y="4114800"/>
              <a:chExt cx="1066680" cy="459720"/>
            </a:xfrm>
          </p:grpSpPr>
          <p:sp>
            <p:nvSpPr>
              <p:cNvPr id="65" name=""/>
              <p:cNvSpPr/>
              <p:nvPr/>
            </p:nvSpPr>
            <p:spPr>
              <a:xfrm>
                <a:off x="7161480" y="4114800"/>
                <a:ext cx="106668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161480" y="411480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4494240" y="4114800"/>
              <a:ext cx="534960" cy="510120"/>
              <a:chOff x="4494240" y="4114800"/>
              <a:chExt cx="534960" cy="510120"/>
            </a:xfrm>
          </p:grpSpPr>
          <p:sp>
            <p:nvSpPr>
              <p:cNvPr id="68" name=""/>
              <p:cNvSpPr/>
              <p:nvPr/>
            </p:nvSpPr>
            <p:spPr>
              <a:xfrm>
                <a:off x="4494240" y="411480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496040" y="411480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808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808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5026320" y="4114800"/>
              <a:ext cx="534960" cy="510120"/>
              <a:chOff x="5026320" y="4114800"/>
              <a:chExt cx="534960" cy="510120"/>
            </a:xfrm>
          </p:grpSpPr>
          <p:sp>
            <p:nvSpPr>
              <p:cNvPr id="71" name=""/>
              <p:cNvSpPr/>
              <p:nvPr/>
            </p:nvSpPr>
            <p:spPr>
              <a:xfrm>
                <a:off x="5026320" y="411480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028120" y="411480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808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808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5561280" y="4114800"/>
              <a:ext cx="1066680" cy="459720"/>
              <a:chOff x="5561280" y="4114800"/>
              <a:chExt cx="1066680" cy="459720"/>
            </a:xfrm>
          </p:grpSpPr>
          <p:sp>
            <p:nvSpPr>
              <p:cNvPr id="74" name=""/>
              <p:cNvSpPr/>
              <p:nvPr/>
            </p:nvSpPr>
            <p:spPr>
              <a:xfrm>
                <a:off x="5561280" y="4114800"/>
                <a:ext cx="106668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561280" y="411480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76" name=""/>
          <p:cNvCxnSpPr>
            <a:endCxn id="51" idx="0"/>
          </p:cNvCxnSpPr>
          <p:nvPr/>
        </p:nvCxnSpPr>
        <p:spPr>
          <a:xfrm flipV="1" rot="10800000">
            <a:off x="3141000" y="2848320"/>
            <a:ext cx="49752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endCxn id="60" idx="0"/>
          </p:cNvCxnSpPr>
          <p:nvPr/>
        </p:nvCxnSpPr>
        <p:spPr>
          <a:xfrm>
            <a:off x="5898960" y="2819520"/>
            <a:ext cx="1013400" cy="129600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838080" y="32306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-writ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34320" y="35053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376380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19720" y="3733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43200" y="51055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124080" y="460188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05720" y="4724280"/>
            <a:ext cx="1981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29400" y="4724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981080"/>
            <a:ext cx="27432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9880" y="2057400"/>
            <a:ext cx="243864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33920" y="3048120"/>
            <a:ext cx="533160" cy="53316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3124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current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666880" y="5358600"/>
            <a:ext cx="190512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04928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934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553080" y="1905120"/>
            <a:ext cx="2057400" cy="16761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7737480" y="2251080"/>
            <a:ext cx="560160" cy="487800"/>
            <a:chOff x="7737480" y="2251080"/>
            <a:chExt cx="560160" cy="487800"/>
          </a:xfrm>
        </p:grpSpPr>
        <p:sp>
          <p:nvSpPr>
            <p:cNvPr id="941" name=""/>
            <p:cNvSpPr/>
            <p:nvPr/>
          </p:nvSpPr>
          <p:spPr>
            <a:xfrm>
              <a:off x="7737480" y="2252520"/>
              <a:ext cx="53640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739280" y="2251080"/>
              <a:ext cx="55836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6864480" y="2251080"/>
            <a:ext cx="559800" cy="487800"/>
            <a:chOff x="6864480" y="2251080"/>
            <a:chExt cx="559800" cy="487800"/>
          </a:xfrm>
        </p:grpSpPr>
        <p:sp>
          <p:nvSpPr>
            <p:cNvPr id="944" name=""/>
            <p:cNvSpPr/>
            <p:nvPr/>
          </p:nvSpPr>
          <p:spPr>
            <a:xfrm>
              <a:off x="6864480" y="2252520"/>
              <a:ext cx="53604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866280" y="2251080"/>
              <a:ext cx="55800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 flipV="1">
            <a:off x="7725960" y="2763000"/>
            <a:ext cx="208800" cy="422640"/>
          </a:xfrm>
          <a:prstGeom prst="line">
            <a:avLst/>
          </a:prstGeom>
          <a:ln w="47520">
            <a:solidFill>
              <a:srgbClr val="0000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7240680" y="6095880"/>
            <a:ext cx="607680" cy="459720"/>
            <a:chOff x="7240680" y="6095880"/>
            <a:chExt cx="607680" cy="459720"/>
          </a:xfrm>
        </p:grpSpPr>
        <p:sp>
          <p:nvSpPr>
            <p:cNvPr id="948" name=""/>
            <p:cNvSpPr/>
            <p:nvPr/>
          </p:nvSpPr>
          <p:spPr>
            <a:xfrm>
              <a:off x="7313400" y="60958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240680" y="60958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951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954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6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957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7315200" y="65530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961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4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5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969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972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975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7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978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981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3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7" name=""/>
          <p:cNvGrpSpPr/>
          <p:nvPr/>
        </p:nvGrpSpPr>
        <p:grpSpPr>
          <a:xfrm>
            <a:off x="7315200" y="5638680"/>
            <a:ext cx="534960" cy="459720"/>
            <a:chOff x="7315200" y="5638680"/>
            <a:chExt cx="534960" cy="459720"/>
          </a:xfrm>
        </p:grpSpPr>
        <p:sp>
          <p:nvSpPr>
            <p:cNvPr id="988" name=""/>
            <p:cNvSpPr/>
            <p:nvPr/>
          </p:nvSpPr>
          <p:spPr>
            <a:xfrm>
              <a:off x="7315200" y="563868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318080" y="5638680"/>
              <a:ext cx="39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0" name=""/>
          <p:cNvSpPr/>
          <p:nvPr/>
        </p:nvSpPr>
        <p:spPr>
          <a:xfrm>
            <a:off x="4038480" y="510552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914560" y="4476600"/>
            <a:ext cx="668520" cy="857520"/>
          </a:xfrm>
          <a:custGeom>
            <a:avLst/>
            <a:gdLst/>
            <a:ahLst/>
            <a:rect l="l" t="t" r="r" b="b"/>
            <a:pathLst>
              <a:path w="421" h="540">
                <a:moveTo>
                  <a:pt x="0" y="0"/>
                </a:moveTo>
                <a:lnTo>
                  <a:pt x="420" y="0"/>
                </a:lnTo>
                <a:lnTo>
                  <a:pt x="421" y="540"/>
                </a:ln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50920" y="5299920"/>
            <a:ext cx="47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95640" y="148428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724280" y="1325520"/>
            <a:ext cx="3810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356000" y="1477080"/>
            <a:ext cx="410544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  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  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656000" y="5924160"/>
            <a:ext cx="5762160" cy="718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IE" sz="36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84360" y="14119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Dee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11280" y="2070720"/>
            <a:ext cx="331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[1]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[2]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[3]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[4]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[5]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343400" y="129456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ccepts </a:t>
            </a:r>
            <a:r>
              <a:rPr b="1" i="1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85800" y="14479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ushdown automat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7-tu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85800" y="19051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62120" y="2362320"/>
            <a:ext cx="75438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bottom symbol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finite set of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l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6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1" i="1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sz="36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w</a:t>
            </a:r>
            <a:r>
              <a:rPr b="0" i="1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or  </a:t>
            </a:r>
            <a:r>
              <a:rPr b="1" i="1" sz="36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1" i="1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sz="36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#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 –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pushdown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685800" y="3657600"/>
            <a:ext cx="7772400" cy="2049840"/>
            <a:chOff x="685800" y="3657600"/>
            <a:chExt cx="7772400" cy="2049840"/>
          </a:xfrm>
        </p:grpSpPr>
        <p:sp>
          <p:nvSpPr>
            <p:cNvPr id="1010" name=""/>
            <p:cNvSpPr/>
            <p:nvPr/>
          </p:nvSpPr>
          <p:spPr>
            <a:xfrm>
              <a:off x="685800" y="3657600"/>
              <a:ext cx="7772400" cy="152388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85800" y="3657600"/>
              <a:ext cx="7696080" cy="20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f a non-input symbol is on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p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top,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expands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pd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as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br>
                <a:rPr sz="3000"/>
              </a:b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w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u</a:t>
              </a:r>
              <a:r>
                <a:rPr b="1" i="1" lang="en-GB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i="1" lang="en-GB" sz="32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w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uvz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mqA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pv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]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u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contains </a:t>
              </a:r>
              <a:r>
                <a:rPr b="1" i="1" lang="en-GB" sz="3200" spc="-1" strike="noStrike">
                  <a:solidFill>
                    <a:srgbClr val="ff9933"/>
                  </a:solidFill>
                  <a:latin typeface="Times New Roman"/>
                </a:rPr>
                <a:t>m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 – 1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non-input symbol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2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685800" y="1676520"/>
            <a:ext cx="7924680" cy="1527840"/>
            <a:chOff x="685800" y="1676520"/>
            <a:chExt cx="7924680" cy="1527840"/>
          </a:xfrm>
        </p:grpSpPr>
        <p:sp>
          <p:nvSpPr>
            <p:cNvPr id="1014" name=""/>
            <p:cNvSpPr/>
            <p:nvPr/>
          </p:nvSpPr>
          <p:spPr>
            <a:xfrm>
              <a:off x="685800" y="1676520"/>
              <a:ext cx="7772400" cy="152388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85800" y="1676520"/>
              <a:ext cx="7924680" cy="15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f an input symbol is on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p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top, </a:t>
              </a: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pops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the pd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as</a:t>
              </a:r>
              <a:br>
                <a:rPr sz="3000"/>
              </a:b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GB" sz="3000" spc="-1" strike="noStrike">
                  <a:solidFill>
                    <a:srgbClr val="ff66ff"/>
                  </a:solidFill>
                  <a:latin typeface="Times New Roman"/>
                </a:rPr>
                <a:t>u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GB" sz="3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i="1" lang="en-GB" sz="30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000" spc="-1" strike="noStrike">
                  <a:solidFill>
                    <a:srgbClr val="ff66ff"/>
                  </a:solidFill>
                  <a:latin typeface="Times New Roman"/>
                </a:rPr>
                <a:t>u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,  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no explicit rule needed in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685800" y="1676520"/>
            <a:ext cx="7772400" cy="1523880"/>
            <a:chOff x="685800" y="1676520"/>
            <a:chExt cx="7772400" cy="1523880"/>
          </a:xfrm>
        </p:grpSpPr>
        <p:sp>
          <p:nvSpPr>
            <p:cNvPr id="1018" name=""/>
            <p:cNvSpPr/>
            <p:nvPr/>
          </p:nvSpPr>
          <p:spPr>
            <a:xfrm>
              <a:off x="685800" y="1676520"/>
              <a:ext cx="7772400" cy="152388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85800" y="1676520"/>
              <a:ext cx="7696080" cy="14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s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of depth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BZ" sz="2800" spc="-1" strike="noStrike">
                  <a:solidFill>
                    <a:srgbClr val="000000"/>
                  </a:solidFill>
                  <a:latin typeface="Times New Roman"/>
                </a:rPr>
                <a:t>denotated by </a:t>
              </a:r>
              <a:r>
                <a:rPr b="1" i="1" lang="en-BZ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en-B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B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s the minimal positive integer such that each of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s rules is of depth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or les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396504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685800" y="3657600"/>
            <a:ext cx="7924680" cy="1732680"/>
            <a:chOff x="685800" y="3657600"/>
            <a:chExt cx="7924680" cy="1732680"/>
          </a:xfrm>
        </p:grpSpPr>
        <p:sp>
          <p:nvSpPr>
            <p:cNvPr id="1022" name=""/>
            <p:cNvSpPr/>
            <p:nvPr/>
          </p:nvSpPr>
          <p:spPr>
            <a:xfrm>
              <a:off x="685800" y="3657600"/>
              <a:ext cx="7772400" cy="15998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85800" y="3657600"/>
              <a:ext cx="7924680" cy="173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900" spc="-1" strike="noStrike">
                  <a:solidFill>
                    <a:srgbClr val="000000"/>
                  </a:solidFill>
                  <a:latin typeface="Times New Roman"/>
                </a:rPr>
                <a:t>Language accepted by </a:t>
              </a:r>
              <a:r>
                <a:rPr b="0" i="1" lang="en-GB" sz="29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9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GB" sz="29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GB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9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29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9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), is defined as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29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US" sz="32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w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w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S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Times New Roman"/>
                </a:rPr>
                <a:t>#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#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in </a:t>
              </a:r>
              <a:r>
                <a:rPr b="0" i="1" lang="en-GB" sz="29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9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GB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br>
                <a:rPr sz="2900"/>
              </a:br>
              <a:r>
                <a:rPr b="0" i="1" lang="en-GB" sz="29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900" spc="-1" strike="noStrike">
                  <a:solidFill>
                    <a:srgbClr val="000000"/>
                  </a:solidFill>
                  <a:latin typeface="Times New Roman"/>
                </a:rPr>
                <a:t>with</a:t>
              </a:r>
              <a:r>
                <a:rPr b="0" i="1" lang="en-GB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Result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and its Pro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51680" y="2465280"/>
            <a:ext cx="7326360" cy="718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Theorem: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n+</a:t>
            </a:r>
            <a:r>
              <a:rPr b="1" lang="en-GB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, for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1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609480" y="1311480"/>
            <a:ext cx="7848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IE" sz="28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IE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 – the language family defined by </a:t>
            </a:r>
            <a:br>
              <a:rPr sz="2800"/>
            </a:b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DeepPDAs of depth </a:t>
            </a:r>
            <a:r>
              <a:rPr b="0" i="1" lang="en-IE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9650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09480" y="3384720"/>
            <a:ext cx="806616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of (Sket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gramma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 (Kasai, 1970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re needed in the pro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e grammar is 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ication of CFG based on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ules of the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1/6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ate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9650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85800" y="1371600"/>
            <a:ext cx="7772400" cy="1905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990720" y="1979280"/>
            <a:ext cx="754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otal alphabe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erminal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et of rules of the for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tart symbo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85800" y="14914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State gramma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85800" y="3341520"/>
            <a:ext cx="7780320" cy="3139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9999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[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and for every nonterminal </a:t>
            </a:r>
            <a:r>
              <a:rPr b="1" i="1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 contains no rule with (</a:t>
            </a:r>
            <a:r>
              <a:rPr b="1" i="1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) on the left-hand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2/6: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imited St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9650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85800" y="1499040"/>
            <a:ext cx="7780320" cy="2497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-limited derivation ste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each derivation step within the first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n-termi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fewer n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85800" y="4089960"/>
            <a:ext cx="7772400" cy="14306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imited state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language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, 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w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GB" sz="3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GB" sz="3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w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838080" y="5761080"/>
            <a:ext cx="8305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GB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th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mily of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mited stat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3/6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04920" y="1842120"/>
            <a:ext cx="396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C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c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85800" y="441864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343400" y="1447920"/>
            <a:ext cx="0" cy="3504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4495680" y="13708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generates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572000" y="2299320"/>
            <a:ext cx="4191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bC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b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C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842840" y="5466960"/>
            <a:ext cx="5610600" cy="718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09480" y="134064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ate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9650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4/6:</a:t>
            </a:r>
            <a:r>
              <a:rPr b="1" i="1" lang="en-PH" sz="4400" spc="-1" strike="noStrike">
                <a:solidFill>
                  <a:srgbClr val="000000"/>
                </a:solidFill>
                <a:latin typeface="Times New Roman"/>
              </a:rPr>
              <a:t> PD</a:t>
            </a:r>
            <a:r>
              <a:rPr b="1" i="1" lang="en-PH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PH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PH" sz="4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PH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PH" sz="44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PH" sz="4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PH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4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PH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13880" y="1751760"/>
            <a:ext cx="778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imulates the application of 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066680" y="2520000"/>
            <a:ext cx="7467840" cy="33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make a left-to-right scan of the pd until the </a:t>
            </a:r>
            <a:r>
              <a:rPr b="1" i="1" lang="en-PH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occurence o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non-term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PH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PH" sz="2800" spc="-1" strike="noStrike" baseline="-25000">
                <a:solidFill>
                  <a:srgbClr val="ff9933"/>
                </a:solidFill>
                <a:latin typeface="Times New Roman"/>
              </a:rPr>
              <a:t>i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PH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then replace </a:t>
            </a:r>
            <a:r>
              <a:rPr b="1" i="1" lang="en-PH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PH" sz="28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and return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to th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beginning of the sentential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ightmost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symbol is alwa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 a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special </a:t>
            </a:r>
            <a:r>
              <a:rPr b="1" i="1" lang="en-PH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,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complet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the simulation by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hanging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PH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Inspi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1899000"/>
            <a:ext cx="8534520" cy="22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sion of CFG to PDA that acts as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general top-down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f pd top =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symbol, 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po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f pd top =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non-inpu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symbol, 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exp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5/6: 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AU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AU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AU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85800" y="1717920"/>
            <a:ext cx="7924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imulate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limited derivations i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1066680" y="2659320"/>
            <a:ext cx="73152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records the firs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n-terminal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from curr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sentential form in its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er tha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n-terminals are extended b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s the string, empties pd, enters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6/6: 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AU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AU" sz="4400" spc="-1" strike="noStrike" baseline="-25000">
                <a:solidFill>
                  <a:srgbClr val="000000"/>
                </a:solidFill>
                <a:latin typeface="Times New Roman"/>
              </a:rPr>
              <a:t>n+</a:t>
            </a:r>
            <a:r>
              <a:rPr b="1" lang="en-AU" sz="4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AU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3" name=""/>
          <p:cNvGrpSpPr/>
          <p:nvPr/>
        </p:nvGrpSpPr>
        <p:grpSpPr>
          <a:xfrm>
            <a:off x="685800" y="4724280"/>
            <a:ext cx="7924680" cy="761760"/>
            <a:chOff x="685800" y="4724280"/>
            <a:chExt cx="7924680" cy="761760"/>
          </a:xfrm>
        </p:grpSpPr>
        <p:sp>
          <p:nvSpPr>
            <p:cNvPr id="1064" name=""/>
            <p:cNvSpPr/>
            <p:nvPr/>
          </p:nvSpPr>
          <p:spPr>
            <a:xfrm>
              <a:off x="685800" y="4724280"/>
              <a:ext cx="7924680" cy="76176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85800" y="4724280"/>
              <a:ext cx="79246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all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1,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 PD</a:t>
              </a:r>
              <a:r>
                <a:rPr b="1" i="1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ST</a:t>
              </a:r>
              <a:r>
                <a:rPr b="1" i="1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</a:t>
              </a: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T</a:t>
              </a:r>
              <a:r>
                <a:rPr b="1" i="1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PD</a:t>
              </a:r>
              <a:r>
                <a:rPr b="1" i="1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6" name=""/>
          <p:cNvSpPr/>
          <p:nvPr/>
        </p:nvSpPr>
        <p:spPr>
          <a:xfrm>
            <a:off x="76212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101240" y="3424680"/>
            <a:ext cx="7413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Kasai (1970):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ST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Symbol"/>
                <a:ea typeface="Symbol"/>
              </a:rPr>
              <a:t>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T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190880" y="1684440"/>
            <a:ext cx="576684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 algn="ctr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As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A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A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A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A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1, </a:t>
            </a:r>
            <a:r>
              <a:rPr b="1" i="1" lang="en-AU" sz="3200" spc="-1" strike="noStrike">
                <a:solidFill>
                  <a:srgbClr val="3333cc"/>
                </a:solidFill>
                <a:latin typeface="Times New Roman"/>
              </a:rPr>
              <a:t>ST</a:t>
            </a:r>
            <a:r>
              <a:rPr b="1" i="1" lang="en-AU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AU" sz="3200" spc="-1" strike="noStrike">
                <a:solidFill>
                  <a:srgbClr val="3333cc"/>
                </a:solidFill>
                <a:latin typeface="Times New Roman"/>
              </a:rPr>
              <a:t>PD</a:t>
            </a:r>
            <a:r>
              <a:rPr b="1" i="1" lang="en-AU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236000" y="57340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Q. E.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 PD</a:t>
            </a:r>
            <a:r>
              <a:rPr b="1" i="1" lang="en-AU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C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AU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2" name=""/>
          <p:cNvGrpSpPr/>
          <p:nvPr/>
        </p:nvGrpSpPr>
        <p:grpSpPr>
          <a:xfrm>
            <a:off x="685800" y="1828800"/>
            <a:ext cx="7924680" cy="1828080"/>
            <a:chOff x="685800" y="1828800"/>
            <a:chExt cx="7924680" cy="1828080"/>
          </a:xfrm>
        </p:grpSpPr>
        <p:sp>
          <p:nvSpPr>
            <p:cNvPr id="1073" name=""/>
            <p:cNvSpPr/>
            <p:nvPr/>
          </p:nvSpPr>
          <p:spPr>
            <a:xfrm>
              <a:off x="685800" y="1828800"/>
              <a:ext cx="7924680" cy="182808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85800" y="1828800"/>
              <a:ext cx="7924680" cy="18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every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, there exists a context-sensitive language 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not included in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PD</a:t>
              </a:r>
              <a:r>
                <a:rPr b="1" i="1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en Problem Are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85800" y="1752480"/>
            <a:ext cx="792468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Determin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Rules of form  </a:t>
            </a:r>
            <a:r>
              <a:rPr b="1" i="1" sz="4000" spc="-1" strike="noStrike">
                <a:solidFill>
                  <a:srgbClr val="000000"/>
                </a:solidFill>
                <a:latin typeface="Times New Roman"/>
              </a:rPr>
              <a:t>mqA </a:t>
            </a:r>
            <a:r>
              <a:rPr b="1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80880" y="4572000"/>
            <a:ext cx="8458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3333cc"/>
                </a:solidFill>
                <a:latin typeface="Times New Roman"/>
              </a:rPr>
              <a:t>Discuss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DA as a general Top-Down Pars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4460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505520"/>
            <a:ext cx="8153640" cy="51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figur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state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input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pd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op: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a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GB" sz="3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xpansion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GB" sz="3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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by rule 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ceptance: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81680" y="5410080"/>
            <a:ext cx="1600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638320" y="5638680"/>
            <a:ext cx="11430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Pushdown Automat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Fundamental Mod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413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20574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ansion may be performed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deeper in p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2743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tandard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3034800" y="416088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860200" y="44067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211480" y="4191120"/>
            <a:ext cx="609480" cy="2186640"/>
            <a:chOff x="2211480" y="4191120"/>
            <a:chExt cx="609480" cy="2186640"/>
          </a:xfrm>
        </p:grpSpPr>
        <p:grpSp>
          <p:nvGrpSpPr>
            <p:cNvPr id="105" name=""/>
            <p:cNvGrpSpPr/>
            <p:nvPr/>
          </p:nvGrpSpPr>
          <p:grpSpPr>
            <a:xfrm>
              <a:off x="2211480" y="5918040"/>
              <a:ext cx="607680" cy="459720"/>
              <a:chOff x="2211480" y="5918040"/>
              <a:chExt cx="607680" cy="459720"/>
            </a:xfrm>
          </p:grpSpPr>
          <p:sp>
            <p:nvSpPr>
              <p:cNvPr id="106" name=""/>
              <p:cNvSpPr/>
              <p:nvPr/>
            </p:nvSpPr>
            <p:spPr>
              <a:xfrm>
                <a:off x="2284200" y="591804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211480" y="591804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2286000" y="4191120"/>
              <a:ext cx="534960" cy="459720"/>
              <a:chOff x="2286000" y="4191120"/>
              <a:chExt cx="534960" cy="459720"/>
            </a:xfrm>
          </p:grpSpPr>
          <p:sp>
            <p:nvSpPr>
              <p:cNvPr id="109" name=""/>
              <p:cNvSpPr/>
              <p:nvPr/>
            </p:nvSpPr>
            <p:spPr>
              <a:xfrm>
                <a:off x="2286000" y="419112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289600" y="419112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2286000" y="4622760"/>
              <a:ext cx="534960" cy="459720"/>
              <a:chOff x="2286000" y="4622760"/>
              <a:chExt cx="534960" cy="459720"/>
            </a:xfrm>
          </p:grpSpPr>
          <p:sp>
            <p:nvSpPr>
              <p:cNvPr id="112" name=""/>
              <p:cNvSpPr/>
              <p:nvPr/>
            </p:nvSpPr>
            <p:spPr>
              <a:xfrm>
                <a:off x="2286000" y="46227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289600" y="462276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2286000" y="5054400"/>
              <a:ext cx="534960" cy="459720"/>
              <a:chOff x="2286000" y="5054400"/>
              <a:chExt cx="534960" cy="459720"/>
            </a:xfrm>
          </p:grpSpPr>
          <p:sp>
            <p:nvSpPr>
              <p:cNvPr id="115" name=""/>
              <p:cNvSpPr/>
              <p:nvPr/>
            </p:nvSpPr>
            <p:spPr>
              <a:xfrm>
                <a:off x="2286000" y="50544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9240" y="505440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86000" y="5486400"/>
              <a:ext cx="534960" cy="459720"/>
              <a:chOff x="2286000" y="5486400"/>
              <a:chExt cx="534960" cy="459720"/>
            </a:xfrm>
          </p:grpSpPr>
          <p:sp>
            <p:nvSpPr>
              <p:cNvPr id="118" name=""/>
              <p:cNvSpPr/>
              <p:nvPr/>
            </p:nvSpPr>
            <p:spPr>
              <a:xfrm>
                <a:off x="2286000" y="54864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9600" y="54864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2286000" y="637524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4724280" y="274284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2743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eep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76520" y="3200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32004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33920" y="5181480"/>
            <a:ext cx="2057400" cy="16765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917960" y="5527800"/>
            <a:ext cx="560160" cy="487800"/>
            <a:chOff x="4917960" y="5527800"/>
            <a:chExt cx="560160" cy="487800"/>
          </a:xfrm>
        </p:grpSpPr>
        <p:sp>
          <p:nvSpPr>
            <p:cNvPr id="127" name=""/>
            <p:cNvSpPr/>
            <p:nvPr/>
          </p:nvSpPr>
          <p:spPr>
            <a:xfrm>
              <a:off x="4917960" y="5529240"/>
              <a:ext cx="53640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919760" y="5527800"/>
              <a:ext cx="55836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044960" y="5527800"/>
            <a:ext cx="560160" cy="487800"/>
            <a:chOff x="4044960" y="5527800"/>
            <a:chExt cx="560160" cy="487800"/>
          </a:xfrm>
        </p:grpSpPr>
        <p:sp>
          <p:nvSpPr>
            <p:cNvPr id="130" name=""/>
            <p:cNvSpPr/>
            <p:nvPr/>
          </p:nvSpPr>
          <p:spPr>
            <a:xfrm>
              <a:off x="4044960" y="5529240"/>
              <a:ext cx="53640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46760" y="5527800"/>
              <a:ext cx="55836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 flipH="1" flipV="1">
            <a:off x="4360320" y="6010200"/>
            <a:ext cx="347040" cy="592560"/>
          </a:xfrm>
          <a:prstGeom prst="line">
            <a:avLst/>
          </a:prstGeom>
          <a:ln w="44280">
            <a:solidFill>
              <a:srgbClr val="808080"/>
            </a:solidFill>
            <a:prstDash val="sysDot"/>
            <a:miter/>
            <a:headEnd len="sm" type="oval" w="sm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703760" y="6038280"/>
            <a:ext cx="411120" cy="573480"/>
          </a:xfrm>
          <a:prstGeom prst="line">
            <a:avLst/>
          </a:prstGeom>
          <a:ln w="47520">
            <a:solidFill>
              <a:srgbClr val="0000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8043480" y="544356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7868880" y="56894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240680" y="4114800"/>
            <a:ext cx="609480" cy="2186640"/>
            <a:chOff x="7240680" y="4114800"/>
            <a:chExt cx="609480" cy="2186640"/>
          </a:xfrm>
        </p:grpSpPr>
        <p:grpSp>
          <p:nvGrpSpPr>
            <p:cNvPr id="137" name=""/>
            <p:cNvGrpSpPr/>
            <p:nvPr/>
          </p:nvGrpSpPr>
          <p:grpSpPr>
            <a:xfrm>
              <a:off x="7240680" y="5841720"/>
              <a:ext cx="607680" cy="459720"/>
              <a:chOff x="7240680" y="5841720"/>
              <a:chExt cx="607680" cy="459720"/>
            </a:xfrm>
          </p:grpSpPr>
          <p:sp>
            <p:nvSpPr>
              <p:cNvPr id="138" name=""/>
              <p:cNvSpPr/>
              <p:nvPr/>
            </p:nvSpPr>
            <p:spPr>
              <a:xfrm>
                <a:off x="7313400" y="584172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240680" y="584172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7315200" y="4114800"/>
              <a:ext cx="534960" cy="459720"/>
              <a:chOff x="7315200" y="4114800"/>
              <a:chExt cx="534960" cy="459720"/>
            </a:xfrm>
          </p:grpSpPr>
          <p:sp>
            <p:nvSpPr>
              <p:cNvPr id="141" name=""/>
              <p:cNvSpPr/>
              <p:nvPr/>
            </p:nvSpPr>
            <p:spPr>
              <a:xfrm>
                <a:off x="7315200" y="41148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318800" y="41148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7315200" y="4546440"/>
              <a:ext cx="534960" cy="459720"/>
              <a:chOff x="7315200" y="4546440"/>
              <a:chExt cx="534960" cy="459720"/>
            </a:xfrm>
          </p:grpSpPr>
          <p:sp>
            <p:nvSpPr>
              <p:cNvPr id="144" name=""/>
              <p:cNvSpPr/>
              <p:nvPr/>
            </p:nvSpPr>
            <p:spPr>
              <a:xfrm>
                <a:off x="7315200" y="45464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318800" y="45464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7315200" y="4978080"/>
              <a:ext cx="534960" cy="459720"/>
              <a:chOff x="7315200" y="4978080"/>
              <a:chExt cx="534960" cy="459720"/>
            </a:xfrm>
          </p:grpSpPr>
          <p:sp>
            <p:nvSpPr>
              <p:cNvPr id="147" name=""/>
              <p:cNvSpPr/>
              <p:nvPr/>
            </p:nvSpPr>
            <p:spPr>
              <a:xfrm>
                <a:off x="7315200" y="497808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318440" y="497808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7315200" y="5410080"/>
              <a:ext cx="534960" cy="459720"/>
              <a:chOff x="7315200" y="5410080"/>
              <a:chExt cx="534960" cy="459720"/>
            </a:xfrm>
          </p:grpSpPr>
          <p:sp>
            <p:nvSpPr>
              <p:cNvPr id="150" name=""/>
              <p:cNvSpPr/>
              <p:nvPr/>
            </p:nvSpPr>
            <p:spPr>
              <a:xfrm>
                <a:off x="7315200" y="541008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18800" y="541008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7315200" y="629892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1447920" y="4191120"/>
            <a:ext cx="761760" cy="457200"/>
          </a:xfrm>
          <a:custGeom>
            <a:avLst/>
            <a:gdLst>
              <a:gd name="textAreaLeft" fmla="*/ 95040 w 761760"/>
              <a:gd name="textAreaRight" fmla="*/ 666720 w 7617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8120" y="4114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77120" y="5410080"/>
            <a:ext cx="761760" cy="457200"/>
          </a:xfrm>
          <a:custGeom>
            <a:avLst/>
            <a:gdLst>
              <a:gd name="textAreaLeft" fmla="*/ 95040 w 761760"/>
              <a:gd name="textAreaRight" fmla="*/ 666720 w 7617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7320" y="5334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Pushdown Autom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1371600"/>
            <a:ext cx="815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ame as Top-Down Parser excep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deep expa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Expansion of depth </a:t>
            </a:r>
            <a:r>
              <a:rPr b="0" i="1" lang="en-GB" sz="28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GB" sz="28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 topmost non-input pd symbol is replaced with a string by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57880" y="3295080"/>
            <a:ext cx="38656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depth of expan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7560" y="411372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72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1" i="1" lang="en-GB" sz="7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72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GB" sz="7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7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GB" sz="7200" spc="-1" strike="noStrike">
                <a:solidFill>
                  <a:srgbClr val="ff66ff"/>
                </a:solidFill>
                <a:latin typeface="Times New Roman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83240" y="3295080"/>
            <a:ext cx="127332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71960" y="5733360"/>
            <a:ext cx="34480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ushdown st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56800" y="5733360"/>
            <a:ext cx="37026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ushdown symb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587760" y="3733920"/>
            <a:ext cx="1974960" cy="7617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797440" y="3962520"/>
            <a:ext cx="69840" cy="5331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3657600" y="5181480"/>
            <a:ext cx="15876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666880" y="3962520"/>
            <a:ext cx="235080" cy="53316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6330960" y="5257800"/>
            <a:ext cx="69840" cy="45720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pansion of Depth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0413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2057400"/>
            <a:ext cx="7772400" cy="2743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2133720"/>
            <a:ext cx="7696080" cy="26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Expansion of depth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00808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00808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uv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rule of depth 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– 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non-input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180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182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185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240680" y="4368960"/>
            <a:ext cx="609480" cy="2186640"/>
            <a:chOff x="7240680" y="4368960"/>
            <a:chExt cx="609480" cy="2186640"/>
          </a:xfrm>
        </p:grpSpPr>
        <p:grpSp>
          <p:nvGrpSpPr>
            <p:cNvPr id="189" name=""/>
            <p:cNvGrpSpPr/>
            <p:nvPr/>
          </p:nvGrpSpPr>
          <p:grpSpPr>
            <a:xfrm>
              <a:off x="7240680" y="6095880"/>
              <a:ext cx="607680" cy="459720"/>
              <a:chOff x="7240680" y="6095880"/>
              <a:chExt cx="607680" cy="459720"/>
            </a:xfrm>
          </p:grpSpPr>
          <p:sp>
            <p:nvSpPr>
              <p:cNvPr id="190" name=""/>
              <p:cNvSpPr/>
              <p:nvPr/>
            </p:nvSpPr>
            <p:spPr>
              <a:xfrm>
                <a:off x="7313400" y="609588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240680" y="60958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7315200" y="4368960"/>
              <a:ext cx="534960" cy="459720"/>
              <a:chOff x="7315200" y="4368960"/>
              <a:chExt cx="534960" cy="459720"/>
            </a:xfrm>
          </p:grpSpPr>
          <p:sp>
            <p:nvSpPr>
              <p:cNvPr id="193" name=""/>
              <p:cNvSpPr/>
              <p:nvPr/>
            </p:nvSpPr>
            <p:spPr>
              <a:xfrm>
                <a:off x="7315200" y="43689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318440" y="436896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7315200" y="4800600"/>
              <a:ext cx="534960" cy="459720"/>
              <a:chOff x="7315200" y="4800600"/>
              <a:chExt cx="534960" cy="459720"/>
            </a:xfrm>
          </p:grpSpPr>
          <p:sp>
            <p:nvSpPr>
              <p:cNvPr id="196" name=""/>
              <p:cNvSpPr/>
              <p:nvPr/>
            </p:nvSpPr>
            <p:spPr>
              <a:xfrm>
                <a:off x="7315200" y="48006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318800" y="48006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315200" y="5232240"/>
              <a:ext cx="534960" cy="459720"/>
              <a:chOff x="7315200" y="5232240"/>
              <a:chExt cx="534960" cy="459720"/>
            </a:xfrm>
          </p:grpSpPr>
          <p:sp>
            <p:nvSpPr>
              <p:cNvPr id="199" name=""/>
              <p:cNvSpPr/>
              <p:nvPr/>
            </p:nvSpPr>
            <p:spPr>
              <a:xfrm>
                <a:off x="7315200" y="5232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318440" y="523224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7315200" y="5664240"/>
              <a:ext cx="534960" cy="459720"/>
              <a:chOff x="7315200" y="5664240"/>
              <a:chExt cx="534960" cy="459720"/>
            </a:xfrm>
          </p:grpSpPr>
          <p:sp>
            <p:nvSpPr>
              <p:cNvPr id="202" name=""/>
              <p:cNvSpPr/>
              <p:nvPr/>
            </p:nvSpPr>
            <p:spPr>
              <a:xfrm>
                <a:off x="7315200" y="5664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318800" y="56642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7315200" y="655308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0" y="2057400"/>
            <a:ext cx="5021280" cy="1297800"/>
            <a:chOff x="0" y="2057400"/>
            <a:chExt cx="5021280" cy="1297800"/>
          </a:xfrm>
        </p:grpSpPr>
        <p:grpSp>
          <p:nvGrpSpPr>
            <p:cNvPr id="206" name=""/>
            <p:cNvGrpSpPr/>
            <p:nvPr/>
          </p:nvGrpSpPr>
          <p:grpSpPr>
            <a:xfrm>
              <a:off x="3733920" y="2895480"/>
              <a:ext cx="534960" cy="459720"/>
              <a:chOff x="3733920" y="2895480"/>
              <a:chExt cx="534960" cy="459720"/>
            </a:xfrm>
          </p:grpSpPr>
          <p:sp>
            <p:nvSpPr>
              <p:cNvPr id="207" name=""/>
              <p:cNvSpPr/>
              <p:nvPr/>
            </p:nvSpPr>
            <p:spPr>
              <a:xfrm>
                <a:off x="3733920" y="289548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735360" y="2895480"/>
                <a:ext cx="532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00808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0" y="2057400"/>
              <a:ext cx="5021280" cy="1297440"/>
              <a:chOff x="0" y="2057400"/>
              <a:chExt cx="5021280" cy="1297440"/>
            </a:xfrm>
          </p:grpSpPr>
          <p:sp>
            <p:nvSpPr>
              <p:cNvPr id="210" name=""/>
              <p:cNvSpPr/>
              <p:nvPr/>
            </p:nvSpPr>
            <p:spPr>
              <a:xfrm>
                <a:off x="906480" y="2057400"/>
                <a:ext cx="190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ad hea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0" y="2285640"/>
                <a:ext cx="5021280" cy="1069200"/>
                <a:chOff x="0" y="2285640"/>
                <a:chExt cx="5021280" cy="1069200"/>
              </a:xfrm>
            </p:grpSpPr>
            <p:cxnSp>
              <p:nvCxnSpPr>
                <p:cNvPr id="212" name=""/>
                <p:cNvCxnSpPr>
                  <a:stCxn id="210" idx="2"/>
                  <a:endCxn id="213" idx="0"/>
                </p:cNvCxnSpPr>
                <p:nvPr/>
              </p:nvCxnSpPr>
              <p:spPr>
                <a:xfrm flipH="1" rot="16200000">
                  <a:off x="1668600" y="2703240"/>
                  <a:ext cx="381600" cy="2520"/>
                </a:xfrm>
                <a:prstGeom prst="bentConnector3">
                  <a:avLst>
                    <a:gd name="adj1" fmla="val 49952"/>
                  </a:avLst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14" name=""/>
                <p:cNvSpPr/>
                <p:nvPr/>
              </p:nvSpPr>
              <p:spPr>
                <a:xfrm>
                  <a:off x="0" y="239004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nput tape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887920" y="2742480"/>
                  <a:ext cx="19810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2811600" y="2285640"/>
                  <a:ext cx="2209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move of hea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7" name=""/>
                <p:cNvGrpSpPr/>
                <p:nvPr/>
              </p:nvGrpSpPr>
              <p:grpSpPr>
                <a:xfrm>
                  <a:off x="4259520" y="2895120"/>
                  <a:ext cx="534960" cy="459720"/>
                  <a:chOff x="4259520" y="2895120"/>
                  <a:chExt cx="534960" cy="45972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>
                    <a:off x="42595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42609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2659320" y="2895120"/>
                  <a:ext cx="534960" cy="459720"/>
                  <a:chOff x="2659320" y="2895120"/>
                  <a:chExt cx="534960" cy="45972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26593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26607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3192480" y="2895120"/>
                  <a:ext cx="534960" cy="459720"/>
                  <a:chOff x="3192480" y="2895120"/>
                  <a:chExt cx="534960" cy="4597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31924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31939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1592280" y="2895120"/>
                  <a:ext cx="534960" cy="459720"/>
                  <a:chOff x="1592280" y="2895120"/>
                  <a:chExt cx="534960" cy="45972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15922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15937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2125800" y="2895120"/>
                  <a:ext cx="534960" cy="459720"/>
                  <a:chOff x="2125800" y="2895120"/>
                  <a:chExt cx="534960" cy="45972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>
                    <a:off x="212580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212724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31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4266360"/>
            <a:ext cx="11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242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244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247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7240680" y="4368960"/>
            <a:ext cx="609480" cy="2186640"/>
            <a:chOff x="7240680" y="4368960"/>
            <a:chExt cx="609480" cy="2186640"/>
          </a:xfrm>
        </p:grpSpPr>
        <p:grpSp>
          <p:nvGrpSpPr>
            <p:cNvPr id="251" name=""/>
            <p:cNvGrpSpPr/>
            <p:nvPr/>
          </p:nvGrpSpPr>
          <p:grpSpPr>
            <a:xfrm>
              <a:off x="7240680" y="6095880"/>
              <a:ext cx="607680" cy="459720"/>
              <a:chOff x="7240680" y="6095880"/>
              <a:chExt cx="607680" cy="459720"/>
            </a:xfrm>
          </p:grpSpPr>
          <p:sp>
            <p:nvSpPr>
              <p:cNvPr id="252" name=""/>
              <p:cNvSpPr/>
              <p:nvPr/>
            </p:nvSpPr>
            <p:spPr>
              <a:xfrm>
                <a:off x="7313400" y="609588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240680" y="60958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7315200" y="4368960"/>
              <a:ext cx="534960" cy="459720"/>
              <a:chOff x="7315200" y="4368960"/>
              <a:chExt cx="534960" cy="459720"/>
            </a:xfrm>
          </p:grpSpPr>
          <p:sp>
            <p:nvSpPr>
              <p:cNvPr id="255" name=""/>
              <p:cNvSpPr/>
              <p:nvPr/>
            </p:nvSpPr>
            <p:spPr>
              <a:xfrm>
                <a:off x="7315200" y="43689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318440" y="436896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7315200" y="4800600"/>
              <a:ext cx="534960" cy="459720"/>
              <a:chOff x="7315200" y="4800600"/>
              <a:chExt cx="534960" cy="459720"/>
            </a:xfrm>
          </p:grpSpPr>
          <p:sp>
            <p:nvSpPr>
              <p:cNvPr id="258" name=""/>
              <p:cNvSpPr/>
              <p:nvPr/>
            </p:nvSpPr>
            <p:spPr>
              <a:xfrm>
                <a:off x="7315200" y="48006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318800" y="48006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7315200" y="5232240"/>
              <a:ext cx="534960" cy="459720"/>
              <a:chOff x="7315200" y="5232240"/>
              <a:chExt cx="534960" cy="459720"/>
            </a:xfrm>
          </p:grpSpPr>
          <p:sp>
            <p:nvSpPr>
              <p:cNvPr id="261" name=""/>
              <p:cNvSpPr/>
              <p:nvPr/>
            </p:nvSpPr>
            <p:spPr>
              <a:xfrm>
                <a:off x="7315200" y="5232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318440" y="523224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7315200" y="5664240"/>
              <a:ext cx="534960" cy="459720"/>
              <a:chOff x="7315200" y="5664240"/>
              <a:chExt cx="534960" cy="459720"/>
            </a:xfrm>
          </p:grpSpPr>
          <p:sp>
            <p:nvSpPr>
              <p:cNvPr id="264" name=""/>
              <p:cNvSpPr/>
              <p:nvPr/>
            </p:nvSpPr>
            <p:spPr>
              <a:xfrm>
                <a:off x="7315200" y="5664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318800" y="56642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7315200" y="655308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0" y="2057400"/>
            <a:ext cx="5021280" cy="1297800"/>
            <a:chOff x="0" y="2057400"/>
            <a:chExt cx="5021280" cy="1297800"/>
          </a:xfrm>
        </p:grpSpPr>
        <p:grpSp>
          <p:nvGrpSpPr>
            <p:cNvPr id="268" name=""/>
            <p:cNvGrpSpPr/>
            <p:nvPr/>
          </p:nvGrpSpPr>
          <p:grpSpPr>
            <a:xfrm>
              <a:off x="3733920" y="2895480"/>
              <a:ext cx="534960" cy="459720"/>
              <a:chOff x="3733920" y="2895480"/>
              <a:chExt cx="534960" cy="459720"/>
            </a:xfrm>
          </p:grpSpPr>
          <p:sp>
            <p:nvSpPr>
              <p:cNvPr id="269" name=""/>
              <p:cNvSpPr/>
              <p:nvPr/>
            </p:nvSpPr>
            <p:spPr>
              <a:xfrm>
                <a:off x="3733920" y="289548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735360" y="2895480"/>
                <a:ext cx="532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00808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0" y="2057400"/>
              <a:ext cx="5021280" cy="1297440"/>
              <a:chOff x="0" y="2057400"/>
              <a:chExt cx="5021280" cy="1297440"/>
            </a:xfrm>
          </p:grpSpPr>
          <p:sp>
            <p:nvSpPr>
              <p:cNvPr id="272" name=""/>
              <p:cNvSpPr/>
              <p:nvPr/>
            </p:nvSpPr>
            <p:spPr>
              <a:xfrm>
                <a:off x="906480" y="2057400"/>
                <a:ext cx="190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ad hea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0" y="2285640"/>
                <a:ext cx="5021280" cy="1069200"/>
                <a:chOff x="0" y="2285640"/>
                <a:chExt cx="5021280" cy="1069200"/>
              </a:xfrm>
            </p:grpSpPr>
            <p:cxnSp>
              <p:nvCxnSpPr>
                <p:cNvPr id="274" name=""/>
                <p:cNvCxnSpPr>
                  <a:stCxn id="272" idx="2"/>
                  <a:endCxn id="275" idx="0"/>
                </p:cNvCxnSpPr>
                <p:nvPr/>
              </p:nvCxnSpPr>
              <p:spPr>
                <a:xfrm flipH="1" rot="16200000">
                  <a:off x="1668600" y="2703240"/>
                  <a:ext cx="381600" cy="2520"/>
                </a:xfrm>
                <a:prstGeom prst="bentConnector3">
                  <a:avLst>
                    <a:gd name="adj1" fmla="val 49952"/>
                  </a:avLst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76" name=""/>
                <p:cNvSpPr/>
                <p:nvPr/>
              </p:nvSpPr>
              <p:spPr>
                <a:xfrm>
                  <a:off x="0" y="239004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nput tape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2887920" y="2742480"/>
                  <a:ext cx="19810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11600" y="2285640"/>
                  <a:ext cx="2209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move of hea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9" name=""/>
                <p:cNvGrpSpPr/>
                <p:nvPr/>
              </p:nvGrpSpPr>
              <p:grpSpPr>
                <a:xfrm>
                  <a:off x="4259520" y="2895120"/>
                  <a:ext cx="534960" cy="459720"/>
                  <a:chOff x="4259520" y="2895120"/>
                  <a:chExt cx="534960" cy="45972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>
                    <a:off x="42595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42609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2" name=""/>
                <p:cNvGrpSpPr/>
                <p:nvPr/>
              </p:nvGrpSpPr>
              <p:grpSpPr>
                <a:xfrm>
                  <a:off x="2659320" y="2895120"/>
                  <a:ext cx="534960" cy="459720"/>
                  <a:chOff x="2659320" y="2895120"/>
                  <a:chExt cx="534960" cy="459720"/>
                </a:xfrm>
              </p:grpSpPr>
              <p:sp>
                <p:nvSpPr>
                  <p:cNvPr id="283" name=""/>
                  <p:cNvSpPr/>
                  <p:nvPr/>
                </p:nvSpPr>
                <p:spPr>
                  <a:xfrm>
                    <a:off x="26593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26607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" name=""/>
                <p:cNvGrpSpPr/>
                <p:nvPr/>
              </p:nvGrpSpPr>
              <p:grpSpPr>
                <a:xfrm>
                  <a:off x="3192480" y="2895120"/>
                  <a:ext cx="534960" cy="459720"/>
                  <a:chOff x="3192480" y="2895120"/>
                  <a:chExt cx="534960" cy="45972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>
                    <a:off x="31924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31939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8" name=""/>
                <p:cNvGrpSpPr/>
                <p:nvPr/>
              </p:nvGrpSpPr>
              <p:grpSpPr>
                <a:xfrm>
                  <a:off x="1592280" y="2895120"/>
                  <a:ext cx="534960" cy="459720"/>
                  <a:chOff x="1592280" y="2895120"/>
                  <a:chExt cx="534960" cy="45972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>
                    <a:off x="15922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15937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0" name=""/>
                <p:cNvGrpSpPr/>
                <p:nvPr/>
              </p:nvGrpSpPr>
              <p:grpSpPr>
                <a:xfrm>
                  <a:off x="2125800" y="2895120"/>
                  <a:ext cx="534960" cy="459720"/>
                  <a:chOff x="2125800" y="2895120"/>
                  <a:chExt cx="534960" cy="45972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212580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212724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93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76920" y="4266360"/>
            <a:ext cx="11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4114800"/>
            <a:ext cx="838080" cy="838080"/>
          </a:xfrm>
          <a:prstGeom prst="ellipse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4038480" y="4495680"/>
            <a:ext cx="5335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1828800" y="3351960"/>
            <a:ext cx="1371600" cy="1219320"/>
          </a:xfrm>
          <a:custGeom>
            <a:avLst/>
            <a:gdLst/>
            <a:ahLst/>
            <a:rect l="l" t="t" r="r" b="b"/>
            <a:pathLst>
              <a:path w="672" h="672">
                <a:moveTo>
                  <a:pt x="672" y="0"/>
                </a:moveTo>
                <a:lnTo>
                  <a:pt x="8" y="0"/>
                </a:lnTo>
                <a:lnTo>
                  <a:pt x="0" y="672"/>
                </a:lnTo>
              </a:path>
            </a:pathLst>
          </a:custGeom>
          <a:noFill/>
          <a:ln w="47520">
            <a:solidFill>
              <a:srgbClr val="000000"/>
            </a:solidFill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41904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</dc:creator>
  <dc:description/>
  <dc:language>en-US</dc:language>
  <cp:lastModifiedBy>Zbyněk Křivka</cp:lastModifiedBy>
  <dcterms:modified xsi:type="dcterms:W3CDTF">2006-09-09T22:39:12Z</dcterms:modified>
  <cp:revision>155</cp:revision>
  <dc:subject/>
  <dc:title>Bez nadpisu</dc:title>
</cp:coreProperties>
</file>